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7C3-23A1-4B4B-B3C3-136A7BDD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028-F205-4A30-8804-50AAC83B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D8D-00D7-4F9F-8BBC-1513E8B1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DC5-6FB7-4F75-8812-E2F42381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06B5-5D95-46EC-9019-60973511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3EAD-3B12-42D3-83A8-70639FF3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A70A-3FCA-4975-A9B9-6894EAAC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58DF-0EB8-49BB-85A2-84156688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87A5-84F9-446C-B7C5-75B0B6C1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6E17-45C7-410A-8C23-C3904407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5DAA-57B1-4448-8FD5-70201FD4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6F5-65AE-4D6A-9845-BE6C4327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69EE-D146-48DA-BFDF-85917C4B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2FE5-9558-411F-A858-3714B22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77EE-F8C0-4F95-A5BC-11ED0A13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DDCA-9C28-46D2-A82B-3DC84F91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8FCA-834D-4400-8B0C-E60DE88E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F4A-1279-49F4-A64D-9B34D30D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55D-4287-4FD9-9A75-5AF882A9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FD7-C691-4EBD-BE62-B3FF5B36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8C4-D7ED-418F-9A16-2549B02B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C1B-53B4-4491-9112-3F5C47D8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07B-8C41-4E7F-9E17-21A3E5E2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0E7-A87E-4D23-AF51-090D0E4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9B6A-D82F-4019-9179-E6A53737CD1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97F3-E75F-4CC3-A3EC-346F52AF137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aren Burt, M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rector, Integrative Health Progr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Questionair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olunteers call patients in 1-4 weeks and ask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Was the Doula helpful during the labor and birth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hat was most helpful about the Doul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breathing help          Massage           compress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positioning           comforting word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ould you recommend a doula to your frien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Com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ssues that Aros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king a smooth entry into L&amp;D – with nursing and medical suppo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doula commitment to continuous support can be exhau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unteer status of the organizers / support te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uccess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oulas involved – several more in the wi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volunteering for administration assist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~20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Assisted Birth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nominated for Service Excellence Aw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llent reception by nursi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Next Train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d - Augu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pe for 10-15 new traine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tribute flyer to anyone interested!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 2 month mini-trainings:  Spanish phrases, ergonomics, back labor, positioning, massage, inductions and augmentations, epidurals,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 – Collaborato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tasha Pinto, MD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en-US" sz="1700" spc="-1" strike="noStrike" baseline="30000">
                <a:solidFill>
                  <a:srgbClr val="ffffff"/>
                </a:solidFill>
                <a:latin typeface="Constantia"/>
              </a:rPr>
              <a:t>st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Year resident:  involved with UCSD Doula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ogram (now extensive).  We adapted their material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s. Lisa Keller and Karen Burt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oth involved in Natural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irthing for 30 year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z Hunter, RN: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eviously a midwife.   Coordinator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ex Dronkers, RN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rom Netherlands.  Scheduling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ole Hagin, CNM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idwife for 30+ years.  Trai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Volunteers: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valuation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erials from UCSD adapted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  Mission, Policy and Procedures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trategy and Actions, Standards of Practi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Training:  February 7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rse Focus Group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questions, concerns, fears, expectation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et the Doula’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urses and doulas met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perienced Doula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osen to do the first couple of births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low roll out in April of more doulas on-cal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going Doula Potluck/trainings Q 2 month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at is a Doula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 can give support to pregnant women and their families – before, during and after the birth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end, mentor, and labor coac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in many cultures – usually women with a lot of life experi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labor: provide continuous physical, emotional and informational suppor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rivate sector: provide advocacy for a safe and satisfying birth experie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erspectives in Childbirth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ealth Care System :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s the top priority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aboring Woman:  Birth is a Life Passage in which both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 and SATISFACTION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ve great significance  - affects:  </a:t>
            </a:r>
            <a:r>
              <a:rPr b="0" lang="en-US" sz="1900" spc="-1" strike="noStrike">
                <a:solidFill>
                  <a:srgbClr val="ffff00"/>
                </a:solidFill>
                <a:latin typeface="Constantia"/>
              </a:rPr>
              <a:t>self esteem,   parenting,  breast-feeding skills ,  immediate birth outcom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atisfaction:  influenced more by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quality of support she receives, feeling in control of herself, and feeling she was actively involved in decision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than by degree of pain, number of interventions, or even the medical outcomes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o are the CCRMC Doulas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ng women interested in Doula, nursing, or midwifery as a prof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men attracted to assisting in the peri-natal time, especially birt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lder women desiring to ment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fessional Doulas (in the private sector) who want to donate their skills to the underserved popul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Role at CCRMC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tinuous labor support (Non-Medical)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chrane Library published in 2003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“Women who had continuous intra-partum support were less likely to have intra-partum analgesia, operative birth or to report dissatisfaction with their childbirth experiences.”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ursing often too busy,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though they would like to be ther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oulas  On-Call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: two 12 hr or one 24 hr shift per month – stay for birth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Available for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who are alo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whose family is unable to support them wel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ven with epidural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uture:  possible expansion of ro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Birth Suppor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reath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assa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irthing Bal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sition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mbul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presses hot and col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Guided Imagery / visualiz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usi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ight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how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Verbal Encouragem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struction and Support for Partners and Family membe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munication with Nursing and Medical personn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Birth Lo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imip/Multi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thni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mily pres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urs of Labor / Stage when Doula arriv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rven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in Manag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livery </a:t>
            </a: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(NSVD, VBAC, Vacuum, Forceps, C-Sec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utcome of baby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weight, Apgars, gestational age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3:00:28Z</dcterms:created>
  <dc:creator>Karen Burt</dc:creator>
  <dc:description/>
  <dc:language>en-US</dc:language>
  <cp:lastModifiedBy>lthomas</cp:lastModifiedBy>
  <dcterms:modified xsi:type="dcterms:W3CDTF">2009-05-26T18:30:58Z</dcterms:modified>
  <cp:revision>18</cp:revision>
  <dc:subject/>
  <dc:title>CCRMC Volunteer Doula Program</dc:title>
</cp:coreProperties>
</file>